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24E-8028-4F05-AFA0-C4F53120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CD6-BFAB-42BA-9E20-70738829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7CB-E690-49EB-9AC2-1C3E0810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5ED-AF38-4068-97B8-4927D148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8C8-99F1-449D-8745-D14F29DA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EF3-A5C9-4BAC-8770-5A669AEC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8A8F-6E32-4AEC-AFA3-1147A1AA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A8C-8ED4-45CC-BDBD-E6F59389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6B5-B540-4986-8F80-D9A49F15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894-D467-4A92-9878-BD682E64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3AD-F205-4C6D-A50F-FC3F3431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77A-393C-4299-8180-7EEDCF23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2FF-E58D-423F-8B0E-FC59EB550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y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w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pi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a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bum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i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li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hug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his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ju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a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g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li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et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hu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whis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alkboard"/>
                <a:ea typeface="Chalkboard"/>
              </a:rPr>
              <a:t>kick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47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halkboard"/>
                <a:ea typeface="Chalkboard"/>
              </a:rPr>
              <a:t>basketball</a:t>
            </a:r>
            <a:r>
              <a:rPr b="0" lang="en-US" sz="59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8. rabbi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9. blanket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10. window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11. glasses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5. trumpet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6. banged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Chalkboard"/>
                <a:ea typeface="Chalkboard"/>
              </a:rPr>
              <a:t>7. music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2. twis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3. pretzel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4. which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halkboard"/>
                <a:ea typeface="Chalkboard"/>
              </a:rPr>
              <a:t>15. whispe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9-10-05T13:43:49Z</dcterms:modified>
  <cp:revision>4</cp:revision>
  <dc:subject/>
  <dc:title>The Art Lesson Group A</dc:title>
</cp:coreProperties>
</file>